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D2C-ECE7-413A-82F4-8864B11A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C3B-24A2-4290-9823-CA338805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C2F-86B0-462E-B3B7-11B13419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962-E033-4C57-BC18-8EB9D520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F93-751D-451C-8B45-A8BB39B8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CA0-F55B-4B11-A27B-3F81447B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50D-4723-41A3-A60F-B27B653A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040-49AD-465D-A2E0-FB18438B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476-C407-49F1-9E79-453B7117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BCA-DA29-45FE-A7B4-9339C954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355-2A80-4A99-9F9C-609A24EE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BBC-84C0-4482-B411-98226216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77E1-E8C2-4BBE-8CF2-2B1D2FDA60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dszermenedzselé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00"/>
                </a:solidFill>
                <a:latin typeface="Arial"/>
              </a:rPr>
              <a:t>A hozzáférési jogosultságok (authorisation) fogalm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umok – erőforrások – elérése, ezekhez való hozzáférések privilégiumainak gyűjtőn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védelmi tartomán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S-DOS védelmi tartomá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nkrét példa: az MS-DOS command.com programja fut. Autentikáció nem volt,  beléptünk a védelmi tartományba. A command.com védelmi tartománya a legtöbb fájlhoz törlési jogot ad, de az IO.SYS és az MSDOS.SYS fájlokhoz nincs törlési j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ndows védelmi tartomá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Windows File Protection szolgálta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védelmi tartomán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nix pél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uid és gid – mellyek meghatározzák ki vagy te és mey csoportba tarozol – védelmi tartományokat is meghatároz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ét tartomány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uid-dal azonosít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gid.del azonosít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ány védelmi tartomány va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imum uid számszor gid szá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processzek egy vagy több védelmi tartományban fut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ok is 1 vagy több tartományhoz tartoz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ozzáférési jogok listája, jogosultsági listá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édelmi hálók leírásának két, különböző formája lehetsé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zzáférési jogok listája (ACL – Access Conrol Li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orma lényege, hogy maga az objektum tárolja a védelmi tartomány azonosítási lehetőségét, és az objektumokhoz való hozzáférési jogo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ogosultsági listák (CL – Capatibility Li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t jelenti, hogy egy processz mit csinálhat az opbjektummal. Ha nincs jogosultsága, akkor nem érheti 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ndszerindítás, leállítá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többtaszkos, esetleg több felhasználós operációs rendszer indítása bonyolultabb feladat, mint egy egyszerű gép bekapcs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operációs rendszer indulása több fázisban történi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hardver ROM rutinok fut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ún. boot loader f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operációs rendszer kernel inicializálód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„kézből” induló processzek keletkezne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ROM rutino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eszteléseket végeznek, ellenőrzik a memóriát, egyéb hardver komponens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hetséges, hogy interaktív menüt kínálnak, ezeket a gép szállítója adja a géph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égül kezdeményezik a boot-olá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A boot folya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t fázisb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irst stage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ijelölt partíció 0. blokkjáról betöltődik a kezdeti betötő program és elind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kármilyen operációs rendszer betöltését kezdeményezheti, azzal, hogy indíthatja a second stage boot progra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econd stage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észe lehet egy op rendszer fájl-rendszerének: ott egy fájl, adott névvel, de speciális helyen 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rendszer leállítás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okásos rendszerzárást a shutdown burokprogrammal végzi a rendszermenedz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hut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igyelmezteti a felhasználókat a rendszerzárás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állítja a daemon processz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rminálja az aktív processz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mountolja a fájlrendszer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ingle user futási módba állítja a rendsz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iad egy sync parancs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Fájlrendszer konzisztencia ellenőrzé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 megfelelő eszközkezelés, nem megfelelő rendszerzárás esetén a fájl-rendszer „széteshet”. A gyakoribb ok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ramkimaradás miatti nem normális rendszerzár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vehető médium kivétele umount elö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os : scan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UNIX : fs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Fájlrendszer konzisztencia ellenőrzé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NIX pél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. fázis: az i-bögök ellenőrzése, adatgyűjtés a további fázisok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rvényes fájl típus bejegyzés kell legy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em nulla linkszám kell legy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rvényes blokk mutatók kelle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Jó fájl-méret bejegyzés kell legy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. fázis : az ösvények ellenő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3. fázis: kapcsolat ellenőr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4. fázis: hivatkozások ellenő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5. fázis: szabad lista ellenő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6. fázis : szabad lista helyreáll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 rendszermenedzser legfontosabb feladatai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ndszer installálása, hangolása, méretre alakítása, karbantartása, erőforrás kezel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ndszer indítása, leáll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onfigurációs fájlok karbantartása, daemonok indítása, adott időben futtatandó parancsok indítása, kommunikációs beállít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elhasználók menedzsel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felhasználók menedzselé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ámlaszámrendsz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számlaszám (account) egy azonosí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rőforrás felhasználás számlázására, nyilvántartására szolg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ulajdonossági kategóriák rögzítésére, a védelmi háló kialakításá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sztálya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ználat szer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ejelentkezésre szolgáló személyes használat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ejelentkezésre nem szolgáló, de tulajdonosságot jelölő számlaszám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édelmi háló szer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orlátozott jogokat biztosí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okásos számlaszám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rivilegizált számlaszámok, melyeket a rendszermenedzserek használ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felhasználók menedzselé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UNIX számlaszám rendszerhez tartozó fájl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eket a bejelentkezéskor használja a rendsz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/etc/passw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/etc/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/etc/i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ntések, visszaállításo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ájlok, fájl-rendszerek tönkremehetnek, letörölhetjük őket véletlenül, és ha nem késztettünk rendszeresen mentéseket, rengeteg munkánk veszhet 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entési eszközök lehetnek szalagok, diszkek, CD-k, DVD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entések fajtái lehet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ájlok szerinti mentés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iszk kép máso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eljes mentés a teljes fájlrendszer men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észleges mentés, egy adott jegyzék alatti jegyzékrendszer men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észíthetünk növekményes mentéseket (incremental backup)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on fájlok másolatai, melyek egy adott idő óta változt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Gyors, kis területet igény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ntések, visszaállításo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rendszermenedzser feladata, hogy stratégiát dolgozzon ki arra, h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kor mentse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lyen gyakran mentse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lyenek legyenek a mentési technikák, a mentés-ellenőrzés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ntési segédprogram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indows,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tbackup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G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ni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 rendszermenedzser legfontosabb feladatai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ájlrendszer mentése, visszaáll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ájlrendszer integritás biztosítása, szabad terület karbantar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plózások, események figyel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ztikák készítése, számláz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 rendszermenedzser legfontosabb feladatai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inte mindegyik tevékenység kapcsolatos a biztonság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gy rendszereknél külön biztonsági menedzsert foglalkoztat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ockázatok és védel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ltalános szabály az,hogy a biztonságnak ára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yelembe kell venn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ép (rendszer) fontosság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iztonsági munkák mennyiség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iztonsági komponensek hatását a felhasználók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fenyegetések osztálya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Fizikai fenyeget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mészeti csap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gosulatlan hozzáférések a termekhez, gépekhez, berendezésekh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. Logikai fenyeget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lhasználók felelőtlensége, téved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gosult szolgáltatás megtagadása valamilyen probléma mia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gosulatlan hozzáférések erőforrásokhoz, információkhoz, szolgáltatások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édelemmel kapcsolatos koncepciók, fogalma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hivatkozás figyelés koncep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Reference Monitor koncepció a 60 –as években lett kidolgozva a több felhasználós rendszerek „hozzáféréses” típusú védelmi problémák megoldás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292640"/>
            <a:ext cx="2159280" cy="792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5661000"/>
            <a:ext cx="2159280" cy="79236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ecurity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4292640"/>
            <a:ext cx="2158920" cy="792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4292640"/>
            <a:ext cx="2158920" cy="792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2997360"/>
            <a:ext cx="2158920" cy="792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onitor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653000"/>
            <a:ext cx="57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4653000"/>
            <a:ext cx="504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00720" y="508428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95640" y="3789360"/>
            <a:ext cx="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3789360"/>
            <a:ext cx="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édelemmel kapcsolatos koncepciók, fogalma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ubjects: szubjektum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ktív entitások, melyek objektumokat tudnak „elérni”. Ide tartoznak a felhasználók, a processzek,task-ok, job-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bjects: objektum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asszív entitások, erőforrások, szolgáltatások. Ilyenek a számítógépek, CPU-k, a memóriák, fájlok stb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ference Monitor Data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efiniált biztonsági követelmény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ecurtity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iztonsági figyelő, a hozzáférési kísérletek naplozása, riasz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ference 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rendszer központi eleme. Bármilyen szubjektum, ha objektumhoz akar hozzáférni csakis ezen keresztül érheti 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00"/>
                </a:solidFill>
                <a:latin typeface="Arial"/>
              </a:rPr>
              <a:t>Az azonosítás (authentication) fogalm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zubjektumok azonosítandó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élja megmondani, hogy egy objektum melyik védelmi tartományba tarto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nak külső és belső azonosítási technikák a felhasználók szám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ülső azonosítási lehető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ágneskártyás beléptető rends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nalkódos rends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épet, szobát záró kul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ső azonosítási lehető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lszós véde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éhány csak a felhasználó által ismert információk lekérd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6:47:17Z</dcterms:created>
  <dc:creator>Nagymáté Péter</dc:creator>
  <dc:description/>
  <dc:language>en-US</dc:language>
  <cp:lastModifiedBy>Nagymáté Péter</cp:lastModifiedBy>
  <dcterms:modified xsi:type="dcterms:W3CDTF">2004-05-20T09:36:12Z</dcterms:modified>
  <cp:revision>15</cp:revision>
  <dc:subject/>
  <dc:title>Operációs rendszerek</dc:title>
</cp:coreProperties>
</file>